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30BE033-C340-42BF-9974-79AC0522A6B0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cond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y name  assitant to Prof. Hornung who holds the chair of public law, information technology law, legal informat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ner of SkIdentity responsible for the legal asp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shed on the agen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posal for a regulation on electronic identification and trust services for electronic transactions in the internal mark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une 04 12 sub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ubject to our research in the context of the project, which I w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78F87AE-6E73-4032-A545-FC89026573C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B7CF191-2EE5-472E-9932-07EE47D5C3B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964BDF-ACB9-4A72-A928-51EF6123A0E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3C12B91-DD14-4BB9-B5D3-3214AA01E1B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cision irrevisi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chnical solutions nee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2495376-C39D-4D9B-A7B2-4CDCAF2207B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22320" y="73836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ach Member State establishes a Gateway that communicate with others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BA63B19-FA14-4C2B-A764-ACE0693790E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e element: brok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ndles eIDs, to different service provi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lso cloud connector as an common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7730DC8-2BF5-4213-98C8-8C9E383BDD7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FACB726-238F-4E88-9CF1-B64FA196996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827303A-1CF0-4E2B-BA99-4DD21DE4E2E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arification: Draft Report Commitee energy, research and technolo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Or recognis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quired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4581FE0-2C9A-4216-8872-7D486FA65D6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ndamental right of self determin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a Protection and Security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s to have them at his own dispos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art of building an infrastructure in accordance with lega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egration of further entities has to be in accordance with existing guid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C25E885-FAB8-4FE3-8009-1231835E979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 parts independentl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55ED472-D89E-415B-ADD8-724BE58AD04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8E71341-F729-4E54-A71D-B8454DAE036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B791876-BC1D-473A-A30A-4213123EEEF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2320" y="78732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wo-factor Authentification, possession and knowledge chipcards nP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C802AB0-200D-45D8-A81C-CD5F9AEE892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kIDentity: Explain in detail l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CFBB665-B6EC-475A-A4A0-8C9FBF441E4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A665075-C0C3-4AA3-BFE6-FE6C0F23CF7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-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n be notified, doesn‘t hav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f notified, recognition and acceptance at a serv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re an electronic identification mean in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ave this for a moment and go to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CE38A3A-5E2F-4F0C-ADE6-2E828D16D27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ssued on behalf or under the responsibility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rrow it down, art.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fic technical requirements on relying parties outside of their terri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e conti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A737D1B-ABA3-4BB5-9B09-40B3E990330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m it up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e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y service provider, where national authentification is required under national legislation or administrative prac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en notifi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ified w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 special technical requirements, free of char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ome sort of 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65EFA9B-61B8-48F2-8F5A-8994459FAEE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ope: issued on behalf of or under the 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ther eids health card, not issued but under the responsibility, can you imagine th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dea of one national eID:  recital, explanatory memorand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blic servic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ording no, recital somehow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ecial technical requirements? What was meant by tha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ho will bear the cos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ownside: we have to accep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iability: wide narr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You could come to the conclusi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732E3CE-8119-4A1A-806F-933593187A0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FDCB-65B0-4282-928D-011888707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DA4D1-1428-456E-931C-C753A8AC2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C9BA-50AC-486A-BC0B-7CA273E14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C34D-C8C7-4869-8638-05D321C895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C6476-F2EF-4376-AB64-11DC457146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9F162-E39B-409A-B2DA-CE920BC291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91DFA-A87C-41F1-AC38-3B3940E505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FD6C0-670E-4ED7-B0D0-92EB3E53A4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8B65F-70B8-4935-BCE1-971F79CCFB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5485B-8530-459D-AC54-F7555A7C4C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0AEBC-E6D0-481D-BD08-43CF8F9AD0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CEFB-B95D-4BD4-A319-E2E41C799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34872-D576-4970-8A75-09A318199D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A5BEA-83D5-49AA-A75C-9BC485BAAA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A5307-1AD2-4570-8806-C742B98078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3E010-9232-4EC8-90A6-4A47F33429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38DC4-587E-4158-BAB6-726DA531F90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9FDFF-6938-4363-B8D4-981FD12CEC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26AE2-5A44-488E-A961-BDA7883E1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DB171-7CC1-457B-A837-7CDED7BFC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561C-983A-46AF-AEB5-5E0008E2C6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2403-0CB1-492E-BEAF-1F36DE688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C81D-E5C6-4F1A-8422-FA5BF17A2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1551E-B1F9-44BD-A290-98284E5BD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F1862C71-6411-4489-BBFA-9D6EE30E0D1D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EA2C1BF4-6227-4C7A-B9D4-6810BD37BA0F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docs.ecsec.de/BSI-MSACC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M in Cloud Computing in Conformity with EU Law?</a:t>
            </a:r>
            <a:br>
              <a:rPr sz="6000"/>
            </a:b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eIAS-R-D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7D3E3CE-DC21-4F91-840B-D9B3D06DE82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507FEAA-27C7-40FF-BDB5-D61A7815945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8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220680" y="292428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42880" y="33156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-Infrastructur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D 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 Provider, § 2 Abs. 3 PAusw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“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upervisory Bod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2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feld 56"/>
          <p:cNvSpPr/>
          <p:nvPr/>
        </p:nvSpPr>
        <p:spPr>
          <a:xfrm>
            <a:off x="7500960" y="2071800"/>
            <a:ext cx="150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view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6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Transfer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2-Person-Relation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Gerade Verbindung mit Pfeil 97"/>
          <p:cNvCxnSpPr>
            <a:stCxn id="229" idx="0"/>
            <a:endCxn id="228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38" name="Textfeld 100"/>
          <p:cNvSpPr/>
          <p:nvPr/>
        </p:nvSpPr>
        <p:spPr>
          <a:xfrm>
            <a:off x="7072200" y="5000760"/>
            <a:ext cx="23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Pos. demands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evok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0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Deman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42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Compla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nPA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cial technical requirement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. not free of char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: other, less secure eIDs have to be acctepted beside the nPA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A338C6D-3E74-4DA9-8607-A72DBA907C6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08378D8D-6790-49C7-8CF4-A2CB1295D66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451B63E-BFBD-4460-91E8-896F649EABF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220680" y="3860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ORK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ateway-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ddleware-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 aims at Gateway-Appro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echnical require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2920" indent="-2192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sadvan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erns towards data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CC9CCB9-D774-413F-A182-79D0E9859343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Architecture 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26FA342-B463-4144-915E-9F95BF163D0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special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 standardized interface: cloud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ee of charge for the service provid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C63DA34-36B5-4CCB-B216-FBEBD647C71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E6F92E7-D165-4FC3-AFA0-BD379B788B7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2340D27-E233-42D2-B006-AA9E61107FC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8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220680" y="472428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Further requirements eIAS-R-D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fficient in the sense of Art. 6 I 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nly one po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r invol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arification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relying parti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cope of application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ack of requirements regarding data proctecion and security – Liabilit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raft Report of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PC on Industry, Research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C137CFB-B314-48EF-AC97-5DF409E3EE7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§ 29 I Nr. 1 PAuswV: no certificate if „der Zweck der Datenerhebung ausschließlich in der Auslesung oder Bereitstellung personenbezogener Daten aus dem Personalausweis für den Ausweisinhaber oder Dritte besteht“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level of confidence? BSI TR 031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5A657C4-09DF-41DB-BE83-5FE0B85B2A2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feld 4"/>
          <p:cNvSpPr/>
          <p:nvPr/>
        </p:nvSpPr>
        <p:spPr>
          <a:xfrm>
            <a:off x="3419640" y="347976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Personal ID Card La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ADC368B-DD9E-4D2B-82B8-790341CEACC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53B11E5-A0DA-4927-9ED9-5EE0BFA4BFA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237960" y="119700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74179F5-B1B7-47C9-A6EC-884ECE2EBC3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DB3CFB2-718F-410C-9297-CFA06F4CF1A6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3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179280" y="5551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clusion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D-R endangeres different secure IDM-Systems and raises a lot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pecially problematic in the international context of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 least modifications needed (e.g. Draft Report E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echnical approaches? 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n questions of law rem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A5E79E16-5674-4B08-AD8C-DD4824B3247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7A3E4E8-D911-4537-AE79-56026C14503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323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3197160" y="692280"/>
            <a:ext cx="28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328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329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330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SI: Security Guidelines for Cloud Provide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E29CEBA-75A3-4AB0-A92A-BEE8FC32BA3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4"/>
          <p:cNvSpPr/>
          <p:nvPr/>
        </p:nvSpPr>
        <p:spPr>
          <a:xfrm>
            <a:off x="3007080" y="6226200"/>
            <a:ext cx="259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 u="sng">
                <a:solidFill>
                  <a:srgbClr val="f56482"/>
                </a:solidFill>
                <a:uFillTx/>
                <a:latin typeface="Arial"/>
                <a:hlinkClick r:id="rId1"/>
              </a:rPr>
              <a:t>http://docs.ecsec.de/BSI-MSACC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76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ratic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kID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ridge between secure eIDs and cloud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lectronic health card / other smart cards /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D-Brok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AS-R-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ttack“ on the eID-infrastructure of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ides: raises a lot of questions: Scope of Application / Liability /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8550F2D-BF9A-4AD2-B99A-10B0104BA91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37CF99D-5D5A-4BA2-A432-60BCFB8F2B28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651F9C8-2EC0-4435-AEB5-CF5369D75C4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t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0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92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220680" y="206064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691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neral content 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sequences for the n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aches to the probl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estions of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18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cceptance of Identitfication Mea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5 – Mutual recognition and accept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hen an electronic identification using an electronic identification means and authentificati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 requir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under national legislation or adminstrative practice to access a service online, any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ssued i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other Member State falling under a scheme includ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in the list published b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Commission pursuant to the procedure referred to in Article 7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be recognised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ccepted for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he purpose of accessing this service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0AF45BB-CBFD-4429-B145-2CE3CC5245D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Requirements for No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icle 6 – Conditions of notification of electronic identificatio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he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a) the electronic identification mean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re issued by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n behalf of or under the responsibilit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notifying [MS]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...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d) the notifying [MS] ensures the availability of an authentication possibility online, at any tim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free of charge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[MS] shall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impos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ny specific technical requirement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relying partie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established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outside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of their territory intending  to carry out such authentication […]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B85F2D7-98C2-4695-9A37-C46ADD7C30EB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Liability?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t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1. „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c) the notifying Member States ensures that the person identification data ar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ttributed unambiguousl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o the natural or legal person referred to in Article 3 point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(e) the notifying Member State takes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liability for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unambiguos attributi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f the person identification data referred to in point 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- (ii) the </a:t>
            </a:r>
            <a:r>
              <a:rPr b="0" i="1" lang="de-DE" sz="2400" spc="-1" strike="noStrike">
                <a:solidFill>
                  <a:srgbClr val="ff0000"/>
                </a:solidFill>
                <a:latin typeface="Arial"/>
              </a:rPr>
              <a:t>authentication possibiltiy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 point (d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3B515A5-2AA5-4EAC-85F3-CDA9248B9B9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Question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cope of applic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ional e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triction to public servi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000" indent="-33696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curity without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special technical requirement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wnside of the principle of mutual acceptance: Lack of data protection and security provis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bil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: Less secure, more likely to be notifi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6BBBB05-6AFF-48DE-8899-6332F919447D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11T07:09:18Z</dcterms:modified>
  <cp:revision>688</cp:revision>
  <dc:subject>Unternehmenspräsentation</dc:subject>
  <dc:title>secunet</dc:title>
</cp:coreProperties>
</file>